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3544-8E10-4E26-90B8-088820BD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963-999F-4953-87AC-FDAD2E60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FAD-54C5-4371-9E26-6E3737AA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17C-9B9C-46F6-8B6B-614BA6DD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1496-2414-4F65-9332-0D42B203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397-8E6F-421E-BCED-A8B4635E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7A9-9947-42ED-B50F-71DF3D3D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8344-06B3-46DE-996F-7A2BD627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39E-0E98-4448-AB98-0A2ABE40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5FA-2102-4DEC-ABBF-30BFAD2F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305-05D5-4A2D-9920-0CDADDF2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D35-1AF7-44E0-8F62-15D2BCF8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9B3C-6C9E-4AF5-891D-FFFDA3A2E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ČANSKÁ PORADNA Karvin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1020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ciace občanských por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logo%20OP" descr=""/>
          <p:cNvPicPr/>
          <p:nvPr/>
        </p:nvPicPr>
        <p:blipFill>
          <a:blip r:embed="rId1"/>
          <a:stretch/>
        </p:blipFill>
        <p:spPr>
          <a:xfrm>
            <a:off x="5076720" y="2492280"/>
            <a:ext cx="2592360" cy="2592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36840" y="2492280"/>
            <a:ext cx="1882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ěkujeme za pozornos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605" t="0" r="0" b="2869"/>
          <a:stretch/>
        </p:blipFill>
        <p:spPr>
          <a:xfrm>
            <a:off x="2124000" y="2852640"/>
            <a:ext cx="47516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ředstavení OP Karviná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ČANSKÁ PORADNA Karviná již 16 let pomáhá potřebným se zorientovat se ve složité české legislativě a zejména v těch nejpalčivějších problémech současnosti. Ukazuje možnosti, učí samostatnému využívání získaných informací a rozvíjí občanská prá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íle OP Karviná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ším cílem je občan, kter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á dostatek informací k řešení svého sociálního problém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í vyjádřit své potřeby a hájit svá práv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áj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á své povinnost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í se na základě získaných rad informovaně rozhodnout o řešení své situ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Kdo se na nás může obrát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živatelem služe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bčanské poradny může být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ždý obč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z ohledu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pohlaví, věk, sociální postavení, tělesný či psychický handicap, světonázorové či politické přesvědčení 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aručuje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ezplatnost, diskrétnost, nestrannost a nezávisl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 čem dokážeme poradit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ální dávky   • sociální pomoc 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rodinné a partnerské vztahy   • pracovní právo       • ochrana spotřebitele   • finanční problematika           • bydlení   • majetkoprávní vztahy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občanské soudní řízení   • veřejná správa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• trestní právo   • ekologie a životní prostředí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• školství a vzdělávání   • zdravotnictví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• základy práva v ČR   • ústavní právo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• pojištění   • právní systém EU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Vzdělávací aktivity – besedy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ako něco navíc..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základě našich statistik má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dispozici nejen profil uživatelů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teří jsou v oblasti ochrany svých práv nejzranitelnější, ale také přehled dotazů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nimiž se na nás obracejí nejčastěji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ěmi jsou především problematika rodinného práva, pracovně-právní vztahy, politika bydlení, ochrana spotřebitele apod. Do těchto oblastí proto témata besed směřuje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lupracujeme s organizacemi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ž zastupují nebo pracují s cílovými skupinami, pro něž jsou besedy určeny především, tzn. kluby seniorů, svazy zdravotně postižených, centra pro rodinu, azylové domy pro osoby v krizi ap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ak nás můžete kontaktovat…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sob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ísem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na adrese V Aleji 435, 734 01 Karviná-Rá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elefonic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na telefonním čísle 596 323 031, v případě složitějšího dotazu je pak zájemce o službu či uživatel objednán k osobní návštěvě porad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-maile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na adrese obcan.ka@slezskadiakonie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y s omezenou možností pohybu si mohou s poradci sjednat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ávštěvu v domácím prostředí či na jiném vhodném míst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tevírací do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NDĚLÍ: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:00-12:00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4:00-16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ÚTERÝ: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:00-12:00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4:00-16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ŘEDA: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:00-12:00       14:00-16:00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ČTVRTEK: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:00-12:00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ÁTEK: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:00-10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6T14:01:58Z</dcterms:created>
  <dc:creator>Sklenaříková Lenka</dc:creator>
  <dc:description/>
  <dc:language>en-US</dc:language>
  <cp:lastModifiedBy>Vedoucí</cp:lastModifiedBy>
  <dcterms:modified xsi:type="dcterms:W3CDTF">2016-09-28T17:27:46Z</dcterms:modified>
  <cp:revision>11</cp:revision>
  <dc:subject/>
  <dc:title>OBČANSKÁ PORADNA Karviná</dc:title>
</cp:coreProperties>
</file>