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0C2-BF9A-4BB0-B552-A1221C5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4CA-E006-4704-9305-FFB3D34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6B9-A9C6-4466-85A7-C8F2D75F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C75-841C-4BBF-9268-68628D92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BD2-4540-49B1-B75E-C0389403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9468-29A1-483B-8204-EC464553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BC4-AC73-450C-BE4F-D9E7B176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C5CF-EF5B-4B43-AEB6-13D2D278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25B-47A0-4F3C-B25A-8E1FE5B4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271-6FB8-4D5B-B731-4AAD9A5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DAC-C4B6-4C33-9B1A-175738E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67B-7B53-476E-8686-CFDA751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2F1C-66FD-4B57-A4B5-531C5A3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A77B-D823-4F53-A1A9-1423576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925-FB50-48E7-AF44-272AA41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471-9D18-4F7D-8C34-C96775F6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08E-17EC-40DF-B7A4-0D5C9C05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318D-85C4-4FC5-9373-091473BE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D675-47A2-4F2F-ACD5-F730F56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EBF8-30BD-42F2-866D-E1F04AB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7E2F-27A6-494F-8C84-C6161D8E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D5C6-2020-4B1F-9E7C-71058D8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7B1-B9E3-405C-B9D4-5F26182C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CF0E-0367-467D-ABAF-92F1C0C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6DA9-1C6B-4B5B-B494-A3CFAAF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0B2F-F9E6-4204-915A-6F154B7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AAEF-73CD-4FDB-8DA1-C8FD5FA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B16E-1C3D-45B3-8857-C57CEFC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A193-20C9-4749-B5D2-07344BB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83B0-9C80-4DC7-926E-A566BC32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8075-E2FE-4A08-80CF-9DAB8435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E303-BA5C-41F1-A742-3D261540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7920-EF34-476A-82C1-182D1D2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03A-EDD8-4BBC-948C-E4DEEA6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4966-6075-4B61-9DE9-F08A7A9A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DE42-01D3-44B8-AFFE-89777DD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A99D-3A8D-471D-B7AA-CFF7A8E0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0508-7FD1-4086-AF53-E2ED77D1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67E4-3618-43E2-BB24-28EAAFD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2CD0-9EEF-485A-87A8-C1736F63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56DC-6F23-4F28-96F1-F76D1DEA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D578-B9A8-4720-BBC5-5F8ADD69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9776-D46D-419D-ACC3-A08002FC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F6819-030D-489B-A755-5C503E45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B06-83C1-48B5-B2DB-083B23F0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9800-686F-4215-9445-7D4EE422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011A-D46E-4C2C-9A8A-BBB3713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F7764-6B20-4F12-99BC-9C426E8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D994-ACCF-4C4C-B99A-2767DFF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2D3F-1A6B-4686-8511-C83C6CF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1BA0-0BED-4943-9A33-9AD0F04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2221-8A91-4FF2-A9FF-F4C9387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F434-6AA9-44AE-8F00-183518D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FADE-9D80-4C82-9230-2F6695E1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2180-18A2-4914-B904-88A7F972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7E5-AF7A-45D8-A627-E258D00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89A7C-2F5B-4EA6-9BA4-0DA5F9A4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3AD92-A824-414F-AC27-A8A3E9FA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8DC21-200E-44AD-8D72-FC5182A2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5D7D9-06DF-46D9-B51E-1C89BF8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7D024-055F-464E-907B-843861A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3A747-6937-47D3-B963-03454EDF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2DAEE-378F-4B9F-94DB-439478D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AB226-54D4-4BD5-A046-FE18CCD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5637B-E457-49EB-B86C-550DF714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68D23-6790-47AB-9830-ED0A00C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DB9-DD33-4926-997E-0147704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2D737-1F1A-4CE8-9C02-6CC835D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9D072-9317-4BF1-9CD0-1469AEA1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88724-B154-412D-BC36-D54B73F7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C9D-E15C-43FF-AA14-A681764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E3F-8CB2-439D-BBC5-3281C08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F18-A20B-49E3-9B85-553A0DFDD3E6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ED45-946A-468C-AD51-B4D73A6172D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0BE-B68C-4F9F-8354-838534CE7086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73C-4429-40F3-B4BC-00335F6A348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C7C-263E-471F-B878-50D7B71841D7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9BB-CBCF-4918-B6DC-C8FF9BA8460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FFFA-C776-4E09-BCAB-2E8FC615EE8D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A470-982C-4261-A945-5DD491F956A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C21-BD94-4DBF-A9E2-48FAC4F91DC0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AA7-5BF9-4B9A-8D37-80CCDB7E39B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B9C1-E5A9-4D8B-9B62-8644656B2AE4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9AA-B617-4B5B-86EB-632E8828AE04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96464"/>
                </a:solidFill>
                <a:latin typeface="Perpetua"/>
              </a:rPr>
              <a:t>Dana Diváková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96464"/>
                </a:solidFill>
                <a:latin typeface="Perpetua"/>
              </a:rPr>
              <a:t>29. 9.2016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F6B-4D11-40D4-B392-240128280893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018C-4C64-4988-B6CD-8EFE126C4BE6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Franklin Gothic Book"/>
              </a:rPr>
              <a:t>ÚVOD DO KOMUNITNÍHO PLÁNOVÁNÍ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0384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32280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0" descr="Obrázek1"/>
          <p:cNvPicPr/>
          <p:nvPr/>
        </p:nvPicPr>
        <p:blipFill>
          <a:blip r:embed="rId1"/>
          <a:stretch/>
        </p:blipFill>
        <p:spPr>
          <a:xfrm>
            <a:off x="7197840" y="11592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7102-4C61-4ADB-9192-250D6C2BF65C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DB1B-806C-4931-8325-50B1B4D39F6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Perpetua"/>
              </a:rPr>
              <a:t>Plánujeme pro veřejno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erpetua"/>
              </a:rPr>
              <a:t>Každý občan je potenciálním uživatelem sociálních služeb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erpetua"/>
              </a:rPr>
              <a:t>Veřejnost, nezapojená do přímého zpracování komunitního plánu, se podílí na připomínkování v rámci konzultačního procesu a v prvotních zjištěních – anketa, dotazníky apo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1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Přínosy komunitního plánování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1576-8CF4-48D6-AF9A-B74AAA35F334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6D35-FA90-400E-A03B-C74DC3D3CE9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Systém sociálních služeb odpovídá zjištěným potřebám a je schopen průběžně reagovat na změn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systému služeb podle existujících (a předpokládaných) potřeb, v odpovídající kvalitě a v souladu s místními specifik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růběžný monito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ktualiz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Úprava a reviz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6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Přínosy komunitního plánování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175-C327-4A78-8533-6F82C15F9D42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EAF-9A6E-42B9-9BBF-20C8E4F2378D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Efektivní využití finančních prostředk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vyšování podílu občanů na rozhodovacím proces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ystém sociálních služeb je průhledný a srozumiteln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e známo jasné zadá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asné výstup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ilný a zkušený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1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Postup pro zpracování K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6679-E7C0-4B2C-BE01-35898ADA6F3E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5643-1134-47B6-A16C-088AC4B2FFB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Rozhodnutí zastupitelstva (sněmu) o zahájení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pracování a schválení Základní listin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řídící skupiny (triád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ituační analý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Místní demografická analý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poskytovatelů služe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potřeb občanů v dané oblast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partnerské koalice (triád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pracování návrhové části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V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oslá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WOT analýza v rámci P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priorit, opatření, akčního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zdroj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řipomínkové říze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chválení plán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80640" y="40464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Partnerská koali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34C3-0011-44CE-82DF-E8F324A303EE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BCE-8688-491A-B4B6-E45CAACD34E5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Definice Koalic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Dává širší rámec přípravě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Monitoruje a připomínkuje jeho přípravu a realizac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ává svá doporuče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ajistí větší sounáležitost všech zúčastněných s výsledk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e platformou neformálních setkání všech aktér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poruje a rozvíjí mezisektorové partnerstv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0640" y="40464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Organizační schém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8E1-38AB-48F7-85A2-E2F5F578F6C4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3B4-7051-40F1-89F2-4095EFD2DC8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Zástupný symbol pro obsah 1" descr=""/>
          <p:cNvPicPr/>
          <p:nvPr/>
        </p:nvPicPr>
        <p:blipFill>
          <a:blip r:embed="rId1"/>
          <a:stretch/>
        </p:blipFill>
        <p:spPr>
          <a:xfrm>
            <a:off x="390600" y="1700280"/>
            <a:ext cx="8240760" cy="3882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brázek1"/>
          <p:cNvPicPr/>
          <p:nvPr/>
        </p:nvPicPr>
        <p:blipFill>
          <a:blip r:embed="rId2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280" y="525600"/>
            <a:ext cx="8163000" cy="90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nzultační proces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0FA-48B0-4EC6-AEF2-493CC9645CD8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80B9-FFF6-475E-A203-681B30616A8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úvodní fází K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sociálních službách v daném místě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získat zpětnou vazbu od občan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účastnících proces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dílčích výstupec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závěrečných výstupec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Návrh postupu při zpracování KP v krocích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A73-0B9A-4B5F-9B77-44D31DD7EA32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4D1-FA6D-4B8A-90A5-C4537228D797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Rozhodnutí zastupitelstva o zahájení KP sociálních služeb     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Zakládací listin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Jmenování koordinátora KP a garanta KP za zadavate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Jmenování Řídícího výboru/skupiny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Výběr členů pracovních skupin/partnerské koali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Oslovení členů pracovních skup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volání první schůzky pracovních skupin, vysvětlení principu KP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jednacího řádu, pravidel diskuze společně se skupino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ituační analýz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ociodemografická analýz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nalýza potřeb v oblasti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nalýza zdrojů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SWOT se znalostí výstupů ze situační analýz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5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Návrh postupu při zpracování KP v krocích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84E-76CA-4CE1-8F43-3E528AB8B03B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3C4-17D3-4816-874C-6615927C365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528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ávrh priorit a opatře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Rozpracování priorit a opatření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dokument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Konzultace dokumentu veřejností včetně zastupitelst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chválení KP zastupitelstvem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akčního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Realizace KP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Monitorování a vyhodnocování KP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Aktualizace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Příklady z prax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884-79EE-46DD-A7D4-485E0A1EE942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300-1731-4A49-8D11-B348FACFAF83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kravare.cz/_files/kravare-f3f54556ef98a7dc892c422199adde74/dokumentstrednedobyplanrozvojesssvazkuobcimikroregionuhlucinskozapad_ver2.pdf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mufrenstat.cz/VismoOnline_ActionScripts/File.ashx?id_org=3471&amp;id_dokumenty=20275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rohov.cz/e_download.php?file=data/editor/344cs_1.pdf&amp;original=St%C5%99edn%C4%9Bdob%C3%BD+pl%C3%A1n+rozvoje+soci%C3%A1ln%C3%ADch+slu%C5%BEeb+OBEC+ROHOV.pdf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Franklin Gothic Book"/>
              </a:rPr>
              <a:t>Obsah prezent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11D-DB35-4B65-A171-5B87CFA0740D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AC5-7D77-40F9-B959-D7A7D035408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Perpetua"/>
              </a:rPr>
              <a:t>Komunitní plánování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Co je komunitní plánování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Co je komunitní plánování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řínosy komunitního plánování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Kdy může být KP úspěšný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ostup pro zpracování K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říprava strategické části KP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kční plá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Informační kampaň a konzultační proc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Monitorování,  vyhodnocování a aktualizace plán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Picture 3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59-liny"/>
          <p:cNvPicPr/>
          <p:nvPr/>
        </p:nvPicPr>
        <p:blipFill>
          <a:blip r:embed="rId1"/>
          <a:stretch/>
        </p:blipFill>
        <p:spPr>
          <a:xfrm>
            <a:off x="2414520" y="457200"/>
            <a:ext cx="4314960" cy="5410080"/>
          </a:xfrm>
          <a:prstGeom prst="rect">
            <a:avLst/>
          </a:prstGeom>
          <a:ln w="0">
            <a:noFill/>
          </a:ln>
        </p:spPr>
      </p:pic>
      <p:sp>
        <p:nvSpPr>
          <p:cNvPr id="377" name="Zástupný symbol pro číslo snímku 3"/>
          <p:cNvSpPr/>
          <p:nvPr/>
        </p:nvSpPr>
        <p:spPr>
          <a:xfrm>
            <a:off x="6553080" y="6248520"/>
            <a:ext cx="213372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6BF3-5FA6-4CA2-984E-9E8724F46BA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C4A7-D6FF-4427-9479-E9F50D89193B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Krásný d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dana.divakova@ikor.c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www.ikor.c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B6F-9C1F-4068-8A0E-E2D737F1172E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429D-67C2-4403-AF9D-9EF48CD4E5E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Franklin Gothic Book"/>
              </a:rPr>
              <a:t>Děkuji za pozornos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2D48-14B5-4443-B96C-FB5AA16E2E73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099-8F18-4E5A-B655-94E8C8C944AF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900" spc="-1" strike="noStrike">
                <a:solidFill>
                  <a:srgbClr val="000000"/>
                </a:solidFill>
                <a:latin typeface="Perpetua"/>
              </a:rPr>
              <a:t>1998</a:t>
            </a:r>
            <a:endParaRPr b="0" lang="en-US" sz="19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3059-1805-4B22-B7CD-D99E5DD172CF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AAC-4EA1-4293-9D38-D75FD859754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900" spc="-1" strike="noStrike">
                <a:solidFill>
                  <a:srgbClr val="000000"/>
                </a:solidFill>
                <a:latin typeface="Perpetua"/>
              </a:rPr>
              <a:t>2006</a:t>
            </a:r>
            <a:endParaRPr b="0" lang="en-US" sz="19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Komunitní plánování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898-D50F-4DE9-80C3-B83337590B44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CFCF-83D8-47AF-9A8F-5AE091E9619D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Zástupný symbol pro obsah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297" name="Obrázek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552840" cy="2663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298" name="Obrázek 5" descr=""/>
          <p:cNvPicPr/>
          <p:nvPr/>
        </p:nvPicPr>
        <p:blipFill>
          <a:blip r:embed="rId3"/>
          <a:stretch/>
        </p:blipFill>
        <p:spPr>
          <a:xfrm>
            <a:off x="755640" y="235116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299" name="Obrázek 6" descr=""/>
          <p:cNvPicPr/>
          <p:nvPr/>
        </p:nvPicPr>
        <p:blipFill>
          <a:blip r:embed="rId4"/>
          <a:stretch/>
        </p:blipFill>
        <p:spPr>
          <a:xfrm>
            <a:off x="755640" y="1503360"/>
            <a:ext cx="8209080" cy="4618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8000"/>
              </a:srgbClr>
            </a:outerShdw>
          </a:effectLst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Komunitní plánování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6E3-8044-491F-A27C-653909F8363E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DBD4-CC83-47E7-95FE-03E42C2FE5E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Umožňuje zpracovávat rozvojové materiály pro různé oblasti veřejného života na úrovni obce, regionu, kraj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lánování se širokým zapojením veřejnost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Kromě KP sociálních služeb je tento princip užíván také např.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zpracování rozvojových strategií obcí, měst a mikroregion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zpracování a realizaci strategií MA 2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lánování a realizaci projektů Zdravé měs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lánování a realizaci dalších komunitních projekt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řípravě MA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4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11A9-9B44-433A-9035-CCEA5C0746E4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4C78-0DA0-4F1F-85A4-97D22837FDE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Komunitní plánování sociálních služeb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je metoda, kterou lze na úrovni obcí, regionů nebo krajů plánovat sociální služby tak, aby odpovídaly místním specifikům i potřebám jednotlivých občan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otevřený proces zjišťování potřeb a zdrojů a hledání nejlepších řešení v oblasti sociálních služe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Charakteristickými znaky KP je důraz kladen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zapojování všech, kterých se zpracovávaná oblast týká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dialog a vyjednává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dosažení výsledků, které jsou přijaty a podporovány většinou účastník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8600" y="32688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9DD4-5AEA-440C-A742-4C8C89DD17C9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176-6357-4FFB-B80A-3B82A6A6390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79560" y="1427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statou komunitního plánování sociálních služeb /a komunitního plánování obecně/ je partnerství. V případě KP SS pak  mezi třemi stranam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Zadavatel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Poskytovatel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Triád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587240" y="46980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unitní plánování sociálních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ovnoramenný trojúhelník 1"/>
          <p:cNvGrpSpPr/>
          <p:nvPr/>
        </p:nvGrpSpPr>
        <p:grpSpPr>
          <a:xfrm>
            <a:off x="3865680" y="3260880"/>
            <a:ext cx="2181240" cy="1682640"/>
            <a:chOff x="3865680" y="3260880"/>
            <a:chExt cx="2181240" cy="1682640"/>
          </a:xfrm>
        </p:grpSpPr>
        <p:pic>
          <p:nvPicPr>
            <p:cNvPr id="317" name="Rovnoramenný trojúhelník 1" descr=""/>
            <p:cNvPicPr/>
            <p:nvPr/>
          </p:nvPicPr>
          <p:blipFill>
            <a:blip r:embed="rId2"/>
            <a:stretch/>
          </p:blipFill>
          <p:spPr>
            <a:xfrm>
              <a:off x="3865680" y="3260880"/>
              <a:ext cx="21812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432320" y="4076640"/>
              <a:ext cx="10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ovéPole 2"/>
          <p:cNvSpPr/>
          <p:nvPr/>
        </p:nvSpPr>
        <p:spPr>
          <a:xfrm>
            <a:off x="414036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davat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ovéPole 9"/>
          <p:cNvSpPr/>
          <p:nvPr/>
        </p:nvSpPr>
        <p:spPr>
          <a:xfrm rot="3420000">
            <a:off x="5272200" y="409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TextovéPole 10" descr=""/>
          <p:cNvPicPr/>
          <p:nvPr/>
        </p:nvPicPr>
        <p:blipFill>
          <a:blip r:embed="rId3"/>
          <a:stretch/>
        </p:blipFill>
        <p:spPr>
          <a:xfrm>
            <a:off x="3413160" y="2889360"/>
            <a:ext cx="12445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79FD-AE9B-43C3-B6FD-1BDD4964EA0B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8E4-CE6C-4C1D-9433-B9500546D37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Zadava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odpovědnost za zajištění sociálních služeb, které odpovídají místním potřebá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Poskytovate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skytovatelé služby provozují, vytvářejí plány či projekty na zachování a rozšiřování svých zařízení, pracovních míst a služeb, které poskytují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Uživate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Uživatelé sociálních služeb jsou lidé v nepříznivé sociální situaci, kterým jsou služby určen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7:16:54Z</dcterms:created>
  <dc:creator>Dana Diváková</dc:creator>
  <dc:description/>
  <dc:language>en-US</dc:language>
  <cp:lastModifiedBy>Dana Diváková</cp:lastModifiedBy>
  <dcterms:modified xsi:type="dcterms:W3CDTF">2016-09-29T04:19:47Z</dcterms:modified>
  <cp:revision>32</cp:revision>
  <dc:subject/>
  <dc:title>Projektové řízení</dc:title>
</cp:coreProperties>
</file>